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457B4-2A55-48C8-A4E7-EEE8A8FEB9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6D375-3B30-4882-9A44-686F156E5A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9F3-7775-4B75-8FF0-1A5A0F3E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9FB-A311-4BE8-A83C-139E0C4F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93A-F13A-449B-A224-CEABB710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737-FA12-40DB-A4EA-1392235D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6A4-7F17-4A42-8264-2BF666E0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F2D-7898-4CCC-B35C-4B40CAF8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1AC-41DA-437F-8269-1F759295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418-2932-4428-B527-FC0543B4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DDC-0C25-4772-A857-54D13246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C85-A8CD-4425-8034-CA54A701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4F8-E117-4F31-9F10-A6D858D3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F2B-40A5-4F3D-BF4A-16BA88E3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A190E-7EC9-4B03-93C1-285163F2ABF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305080" y="2328840"/>
            <a:ext cx="493092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2128680" y="101124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最富有的时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7"/>
          <p:cNvSpPr/>
          <p:nvPr/>
        </p:nvSpPr>
        <p:spPr>
          <a:xfrm>
            <a:off x="1403280" y="3067200"/>
            <a:ext cx="685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面对中奖的轿车，“我”充满了兴奋与渴望，而父亲却不开心，咆哮着让“我”走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82720" y="1614600"/>
            <a:ext cx="7535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面对中奖的轿车时，“我”和父亲的表现有什么不同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16" name="矩形 11"/>
          <p:cNvSpPr/>
          <p:nvPr/>
        </p:nvSpPr>
        <p:spPr>
          <a:xfrm>
            <a:off x="1081080" y="2373480"/>
            <a:ext cx="754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文主要写了第二次世界大战前，生活困难的“我们”意外中奖，获得了一辆汽车，父亲经过思考之后，把车还给了它真正的主人的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矩形 13"/>
          <p:cNvSpPr/>
          <p:nvPr/>
        </p:nvSpPr>
        <p:spPr>
          <a:xfrm>
            <a:off x="1133640" y="2290680"/>
            <a:ext cx="768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面加点的字选择正确的读音，画上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亲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馈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u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u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凯特立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ǎ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ǎ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ō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ò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落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uò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囚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ǒ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ó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4545000" y="35622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4875120" y="40719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1360440" y="3556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4572720" y="29908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8"/>
          <p:cNvSpPr/>
          <p:nvPr/>
        </p:nvSpPr>
        <p:spPr>
          <a:xfrm>
            <a:off x="1333440" y="41022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9"/>
          <p:cNvSpPr/>
          <p:nvPr/>
        </p:nvSpPr>
        <p:spPr>
          <a:xfrm>
            <a:off x="1638000" y="29732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接连接符 23"/>
          <p:cNvSpPr/>
          <p:nvPr/>
        </p:nvSpPr>
        <p:spPr>
          <a:xfrm>
            <a:off x="2598840" y="343692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接连接符 24"/>
          <p:cNvSpPr/>
          <p:nvPr/>
        </p:nvSpPr>
        <p:spPr>
          <a:xfrm>
            <a:off x="6168960" y="449892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接连接符 25"/>
          <p:cNvSpPr/>
          <p:nvPr/>
        </p:nvSpPr>
        <p:spPr>
          <a:xfrm>
            <a:off x="2651040" y="3963960"/>
            <a:ext cx="505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接连接符 26"/>
          <p:cNvSpPr/>
          <p:nvPr/>
        </p:nvSpPr>
        <p:spPr>
          <a:xfrm>
            <a:off x="6267600" y="3952800"/>
            <a:ext cx="938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接连接符 27"/>
          <p:cNvSpPr/>
          <p:nvPr/>
        </p:nvSpPr>
        <p:spPr>
          <a:xfrm>
            <a:off x="2036880" y="4486320"/>
            <a:ext cx="530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接连接符 28"/>
          <p:cNvSpPr/>
          <p:nvPr/>
        </p:nvSpPr>
        <p:spPr>
          <a:xfrm>
            <a:off x="5938920" y="3432240"/>
            <a:ext cx="647640" cy="4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1"/>
          <p:cNvSpPr/>
          <p:nvPr/>
        </p:nvSpPr>
        <p:spPr>
          <a:xfrm>
            <a:off x="1582560" y="194328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括号里填上恰当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轿车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心情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决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驶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温柔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问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5"/>
          <p:cNvSpPr/>
          <p:nvPr/>
        </p:nvSpPr>
        <p:spPr>
          <a:xfrm>
            <a:off x="4927680" y="357840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迷惑不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26"/>
          <p:cNvSpPr/>
          <p:nvPr/>
        </p:nvSpPr>
        <p:spPr>
          <a:xfrm>
            <a:off x="2004840" y="2577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崭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27"/>
          <p:cNvSpPr/>
          <p:nvPr/>
        </p:nvSpPr>
        <p:spPr>
          <a:xfrm>
            <a:off x="5244840" y="256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8"/>
          <p:cNvSpPr/>
          <p:nvPr/>
        </p:nvSpPr>
        <p:spPr>
          <a:xfrm>
            <a:off x="2004840" y="3182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9"/>
          <p:cNvSpPr/>
          <p:nvPr/>
        </p:nvSpPr>
        <p:spPr>
          <a:xfrm>
            <a:off x="5205240" y="3192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缓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0"/>
          <p:cNvSpPr/>
          <p:nvPr/>
        </p:nvSpPr>
        <p:spPr>
          <a:xfrm>
            <a:off x="2990880" y="367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9"/>
          <p:cNvSpPr/>
          <p:nvPr/>
        </p:nvSpPr>
        <p:spPr>
          <a:xfrm>
            <a:off x="1582560" y="187488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补充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磊落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非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歇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欣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5572080" y="3598920"/>
            <a:ext cx="16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若  　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1910520" y="25765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5166360" y="25779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想　  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2577240" y="31338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底　  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4683600" y="3149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迷  　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2351880" y="36957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五　    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8"/>
          <p:cNvSpPr/>
          <p:nvPr/>
        </p:nvSpPr>
        <p:spPr>
          <a:xfrm>
            <a:off x="539640" y="98424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坚持　　维持　　支持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论我多么想要那辆汽车，父亲还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它还给凯特立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知道，妈妈对父亲的决定也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集会的时候，班干部负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秩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可惜　　惋惜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么漂亮的汽车被别人开走，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华华的学习一下子退步了很多，老师为她感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5608800" y="484020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可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6356160" y="2219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坚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5708160" y="330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支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4808160" y="37368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维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7435800" y="539100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惋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9"/>
          <p:cNvSpPr/>
          <p:nvPr/>
        </p:nvSpPr>
        <p:spPr>
          <a:xfrm>
            <a:off x="431640" y="1073160"/>
            <a:ext cx="82440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按要求改写句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辆崭新的轿车缓缓地从拥挤的人群旁边驶过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缩写句子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难道我们中奖得到汽车是不道德的吗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成陈述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母亲安慰我说：“你不要感到委屈，你父亲是在思考有关道德的问题呢。”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为转述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1062000" y="4594320"/>
            <a:ext cx="732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母亲安慰我，让我不要感到委屈，我父亲是在思考有关道德的问题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1"/>
          <p:cNvSpPr/>
          <p:nvPr/>
        </p:nvSpPr>
        <p:spPr>
          <a:xfrm>
            <a:off x="1079640" y="2085840"/>
            <a:ext cx="759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轿车驶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1111320" y="3068640"/>
            <a:ext cx="605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们中奖得到汽车是道德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866880" y="23652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认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认的生字，理解“富有、馈赠、安慰、流逝、光明磊落”等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任意多边形 8"/>
          <p:cNvSpPr/>
          <p:nvPr/>
        </p:nvSpPr>
        <p:spPr>
          <a:xfrm>
            <a:off x="1162080" y="2593800"/>
            <a:ext cx="7099200" cy="316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36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戚      馈      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1253520" y="231624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3984840" y="236520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6665400" y="236376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ǎ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2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763640" y="2806560"/>
            <a:ext cx="6134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亲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戚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光明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磊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落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馈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2309040" y="240336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5856840" y="240336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ě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1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矩形 9"/>
          <p:cNvSpPr/>
          <p:nvPr/>
        </p:nvSpPr>
        <p:spPr>
          <a:xfrm>
            <a:off x="1739160" y="356076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446120" y="3359160"/>
            <a:ext cx="5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4"/>
          <p:cNvGrpSpPr/>
          <p:nvPr/>
        </p:nvGrpSpPr>
        <p:grpSpPr>
          <a:xfrm>
            <a:off x="2019240" y="2778120"/>
            <a:ext cx="4049640" cy="1556280"/>
            <a:chOff x="2019240" y="2778120"/>
            <a:chExt cx="4049640" cy="1556280"/>
          </a:xfrm>
        </p:grpSpPr>
        <p:sp>
          <p:nvSpPr>
            <p:cNvPr id="87" name="左大括号 2"/>
            <p:cNvSpPr/>
            <p:nvPr/>
          </p:nvSpPr>
          <p:spPr>
            <a:xfrm>
              <a:off x="2019240" y="3138480"/>
              <a:ext cx="320400" cy="928800"/>
            </a:xfrm>
            <a:custGeom>
              <a:avLst/>
              <a:gdLst>
                <a:gd name="textAreaLeft" fmla="*/ 204840 w 320400"/>
                <a:gd name="textAreaRight" fmla="*/ 320760 w 32040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4"/>
                    <a:pt x="10800" y="427"/>
                  </a:cubicBezTo>
                  <a:lnTo>
                    <a:pt x="10800" y="10373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4"/>
                    <a:pt x="10800" y="11227"/>
                  </a:cubicBezTo>
                  <a:lnTo>
                    <a:pt x="10800" y="21173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"/>
            <p:cNvSpPr/>
            <p:nvPr/>
          </p:nvSpPr>
          <p:spPr>
            <a:xfrm>
              <a:off x="2262600" y="2778120"/>
              <a:ext cx="3806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óng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笼子　牢笼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ǒng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笼罩　笼络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组合 2"/>
          <p:cNvGrpSpPr/>
          <p:nvPr/>
        </p:nvGrpSpPr>
        <p:grpSpPr>
          <a:xfrm>
            <a:off x="857160" y="1305000"/>
            <a:ext cx="2905200" cy="666720"/>
            <a:chOff x="857160" y="1305000"/>
            <a:chExt cx="2905200" cy="666720"/>
          </a:xfrm>
        </p:grpSpPr>
        <p:sp>
          <p:nvSpPr>
            <p:cNvPr id="90" name="圆角矩形 17"/>
            <p:cNvSpPr/>
            <p:nvPr/>
          </p:nvSpPr>
          <p:spPr>
            <a:xfrm>
              <a:off x="1672920" y="144288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57160" y="130500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16"/>
            <p:cNvSpPr/>
            <p:nvPr/>
          </p:nvSpPr>
          <p:spPr>
            <a:xfrm>
              <a:off x="1932480" y="14619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1025640" y="1990800"/>
            <a:ext cx="745632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富有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馈赠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安慰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流逝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9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1"/>
          <p:cNvSpPr/>
          <p:nvPr/>
        </p:nvSpPr>
        <p:spPr>
          <a:xfrm>
            <a:off x="1836720" y="1996920"/>
            <a:ext cx="710568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拥有大量的财产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赠送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礼品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使心情安适。②因精神上得到满足而心情安适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造句：你要多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安慰安慰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他，叫他别太难过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有女儿在身边，她感到很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安慰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像流水一样消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造句：时间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流逝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，转眼小学六年的生活就要结束了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1038240" y="202896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光明磊落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想入非非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1"/>
          <p:cNvSpPr/>
          <p:nvPr/>
        </p:nvSpPr>
        <p:spPr>
          <a:xfrm>
            <a:off x="2448000" y="2050920"/>
            <a:ext cx="56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没有私心，胸怀坦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无论做什么事情，我们都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光明磊落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思想进入虚幻境界，完全脱离实际；胡思乱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不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想入非非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盼着一夜暴富，要诚信经营，合法挣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770040" y="1808280"/>
            <a:ext cx="745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迷惑不解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歇斯底里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五一十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1"/>
          <p:cNvSpPr/>
          <p:nvPr/>
        </p:nvSpPr>
        <p:spPr>
          <a:xfrm>
            <a:off x="2008080" y="1841400"/>
            <a:ext cx="671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辨别不清，摸不着头脑，不明白其中的缘由。文中指“我”对母亲说的父亲在思考有关道德的问题摸不着头脑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面对老师的问话他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迷惑不解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形容情绪异常激动，举止失常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他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歇斯底里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地大叫：“不要离开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形容叙述时清楚有序而无遗漏。文中指母亲从头到尾没有遗漏地叙述事情的经过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他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一五一十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地把事情的经过告诉了妈妈，妈妈听后没有埋怨他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887400" y="164628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生活拮据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二战前“我”家的日子过得很穷，但母亲经常说：“做事光明磊落，就等于有了一大笔财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得车还车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“我”家意外中奖，得了一辆汽车。“我”从母亲那里知道了中奖的真相，父亲经过思考之后把车还给了它真正的主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2:50:59Z</dcterms:modified>
  <cp:revision>4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